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B7D-E5D9-4CD6-94EC-003CD5D5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94B-92A9-4D33-89AC-E269F812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A3B-94E4-4D58-A1A9-12C7D559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C4F-D48E-4ADC-832D-5A5331DA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8ED8-A0D0-4FD9-A5F2-46E58E87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A382-1A10-4FB4-BFB5-FEC98ACE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1BB7-F8D4-41F2-A94B-B7747E1F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E3AC-043D-4E48-83A6-2D8AD4D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F54F-A599-48A5-BB3A-9E9C6ED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7286-6261-4589-BE71-C08EE10C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9994-4467-4C07-A676-7F2F9FDA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750-20B6-489F-B14E-38BE8C94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383-6411-4458-B0F3-D953088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8C3-837D-43B1-BBEE-96C993B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84BE-ADBF-4AA4-AC7E-7488E54E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C736-D1C9-4C83-917E-A5680D8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2377-8B40-4200-A5C9-B4E4A83E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4CC-018C-41F6-A052-A0CE65C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48E-97E7-4DFD-86EC-25ED6F02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E6A-8759-449A-9DD6-CD6E47A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E06-FEB8-4CEE-98E1-19EA047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FED-5D62-4BB0-9441-08D2BDE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AB1-2EF0-4515-9043-8CD7850C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06D-72A0-4E1C-8B58-D87114F1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BCBE-0DFE-47D3-95FA-6459F3B333D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234-2DE1-4A4B-BCE4-0525E8335F6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24880" cy="44193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LITERACY</a:t>
            </a:r>
            <a:br>
              <a:rPr sz="8400"/>
            </a:b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and</a:t>
            </a:r>
            <a:br>
              <a:rPr sz="8400"/>
            </a:br>
            <a:r>
              <a:rPr b="1" lang="en-US" sz="8400" spc="-1" strike="noStrike">
                <a:solidFill>
                  <a:srgbClr val="996633"/>
                </a:solidFill>
                <a:latin typeface="DJ Blocks"/>
              </a:rPr>
              <a:t>READING</a:t>
            </a:r>
            <a:endParaRPr b="0" lang="en-US" sz="8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5486040"/>
            <a:ext cx="6400800" cy="6094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hild Development II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90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READING FACTS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4956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Learning to read requires a combination of many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SKILLS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A child’s success in learning to read is affected more by reading related experiences that a child has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BEFORE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entering school than the reading related experiences a child has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AFTER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he/she enters school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Children who are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READ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to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</a:t>
            </a:r>
            <a:r>
              <a:rPr b="0" lang="en-US" sz="2300" spc="-1" strike="noStrike" u="sng">
                <a:solidFill>
                  <a:srgbClr val="402000"/>
                </a:solidFill>
                <a:uFillTx/>
                <a:latin typeface="Arial Black"/>
              </a:rPr>
              <a:t>REGULARLY</a:t>
            </a:r>
            <a:r>
              <a:rPr b="0" lang="en-US" sz="2300" spc="-1" strike="noStrike">
                <a:solidFill>
                  <a:srgbClr val="402000"/>
                </a:solidFill>
                <a:latin typeface="Arial Black"/>
              </a:rPr>
              <a:t> are better readers.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Literacy is the ability to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Black"/>
              </a:rPr>
              <a:t>READ</a:t>
            </a: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 and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Black"/>
              </a:rPr>
              <a:t>WRITE</a:t>
            </a:r>
            <a:r>
              <a:rPr b="0" lang="en-US" sz="2400" spc="-1" strike="noStrike">
                <a:solidFill>
                  <a:srgbClr val="996633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US" sz="2000" spc="-1" strike="noStrike">
                <a:solidFill>
                  <a:srgbClr val="996633"/>
                </a:solidFill>
                <a:latin typeface="Arial Black"/>
              </a:rPr>
              <a:t>Reading and writing are forms of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Black"/>
              </a:rPr>
              <a:t>COMMUNICATION</a:t>
            </a:r>
            <a:r>
              <a:rPr b="0" lang="en-US" sz="2000" spc="-1" strike="noStrike">
                <a:solidFill>
                  <a:srgbClr val="996633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572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Words are a form of COMMUNICATIO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Name 5 different sources you could use to see words everyday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Sign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Comic Strip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Directions of food / labels / recip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Newspape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Directions for Toy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 Black"/>
              </a:rPr>
              <a:t>Book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If a child can </a:t>
            </a:r>
            <a:r>
              <a:rPr b="0" lang="en-US" sz="4000" spc="-1" strike="noStrike" u="sng">
                <a:solidFill>
                  <a:srgbClr val="402000"/>
                </a:solidFill>
                <a:uFillTx/>
                <a:latin typeface="Arial Black"/>
              </a:rPr>
              <a:t>SEE</a:t>
            </a: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 other people read -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Arial Black"/>
              </a:rPr>
              <a:t>they will learn that </a:t>
            </a:r>
            <a:r>
              <a:rPr b="0" lang="en-US" sz="5400" spc="-1" strike="noStrike" u="sng">
                <a:solidFill>
                  <a:srgbClr val="402000"/>
                </a:solidFill>
                <a:uFillTx/>
                <a:latin typeface="Arial Black"/>
              </a:rPr>
              <a:t>READING</a:t>
            </a:r>
            <a:r>
              <a:rPr b="0" lang="en-US" sz="5400" spc="-1" strike="noStrike">
                <a:solidFill>
                  <a:srgbClr val="402000"/>
                </a:solidFill>
                <a:latin typeface="Arial Black"/>
              </a:rPr>
              <a:t> is </a:t>
            </a:r>
            <a:r>
              <a:rPr b="0" lang="en-US" sz="6600" spc="-1" strike="noStrike" u="sng">
                <a:solidFill>
                  <a:srgbClr val="402000"/>
                </a:solidFill>
                <a:uFillTx/>
                <a:latin typeface="DJ Big Stick"/>
              </a:rPr>
              <a:t>IMPORTANT!</a:t>
            </a: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 Black"/>
              </a:rPr>
              <a:t>WHAT DO BOOKS TEACH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0779800">
            <a:off x="1295280" y="2285640"/>
            <a:ext cx="3048120" cy="53352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Alphabe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88800">
            <a:off x="5559120" y="2233080"/>
            <a:ext cx="2219400" cy="833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Word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048120"/>
            <a:ext cx="2895840" cy="761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Rhy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 rot="20293800">
            <a:off x="1370880" y="4724280"/>
            <a:ext cx="3298680" cy="72864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Grammar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700400">
            <a:off x="5943600" y="4724280"/>
            <a:ext cx="2514600" cy="60984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Concep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5486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 Black"/>
              </a:rPr>
              <a:t>Relationship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400" cy="3408480"/>
          </a:xfrm>
          <a:prstGeom prst="rect">
            <a:avLst/>
          </a:prstGeom>
          <a:solidFill>
            <a:srgbClr val="fbfae2"/>
          </a:solidFill>
          <a:ln w="9360">
            <a:solidFill>
              <a:srgbClr val="9966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996633"/>
                </a:solidFill>
                <a:latin typeface="DJ Blocks"/>
              </a:rPr>
              <a:t>Story Telling</a:t>
            </a:r>
            <a:endParaRPr b="0" lang="en-US" sz="11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CHARACTERISTICS of a Good STORY TELLER:</a:t>
            </a:r>
            <a:r>
              <a:rPr b="0" lang="en-US" sz="4400" spc="-1" strike="noStrike">
                <a:solidFill>
                  <a:srgbClr val="996633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933960" cy="44956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Voice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- Change tone &amp; pit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Facial Expres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Eye Contac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Speed -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Slow Dow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Volume - </a:t>
            </a:r>
            <a:r>
              <a:rPr b="0" lang="en-US" sz="2000" spc="-1" strike="noStrike">
                <a:solidFill>
                  <a:srgbClr val="402000"/>
                </a:solidFill>
                <a:latin typeface="Arial Black"/>
              </a:rPr>
              <a:t>Loud enough for whole grou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Arial Black"/>
              </a:rPr>
              <a:t>Speak Clearl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rus Blk BT Black"/>
              </a:rPr>
              <a:t>READ STORY BEFORE TELLING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93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Be FAMILIAR with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Know VOCABULARY in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Arial Black"/>
              </a:rPr>
              <a:t>Feel the FLOW of the story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rus Blk BT Black"/>
              </a:rPr>
              <a:t>C.R.O.W.S.</a:t>
            </a:r>
            <a:endParaRPr b="0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C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Completion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Fill in the blanks/Rhyming Word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R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Retell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Child tells story in own word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O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Open-Ended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Child Responds “Tell me about…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W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Wh-?’s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 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What-When-Where-Who &amp; Why question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. </a:t>
            </a:r>
            <a:r>
              <a:rPr b="0" i="1" lang="en-US" sz="3200" spc="-1" strike="noStrike">
                <a:solidFill>
                  <a:srgbClr val="402000"/>
                </a:solidFill>
                <a:latin typeface="Arial Black"/>
              </a:rPr>
              <a:t>Schema</a:t>
            </a:r>
            <a:r>
              <a:rPr b="0" lang="en-US" sz="3200" spc="-1" strike="noStrike">
                <a:solidFill>
                  <a:srgbClr val="402000"/>
                </a:solidFill>
                <a:latin typeface="Arial Black"/>
              </a:rPr>
              <a:t>-</a:t>
            </a:r>
            <a:r>
              <a:rPr b="0" lang="en-US" sz="1800" spc="-1" strike="noStrike">
                <a:solidFill>
                  <a:srgbClr val="402000"/>
                </a:solidFill>
                <a:latin typeface="Arial Black"/>
              </a:rPr>
              <a:t>Relate to the child’s lif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16:35Z</dcterms:created>
  <dc:creator>Robert Hicks</dc:creator>
  <dc:description/>
  <dc:language>en-US</dc:language>
  <cp:lastModifiedBy>wcsd</cp:lastModifiedBy>
  <dcterms:modified xsi:type="dcterms:W3CDTF">2010-03-10T19:43:32Z</dcterms:modified>
  <cp:revision>6</cp:revision>
  <dc:subject/>
  <dc:title>LITERACY and READING</dc:title>
</cp:coreProperties>
</file>